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07E-0BB2-4B24-9476-64B0AFB0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20C-F0CE-41E0-9D44-F2049C58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5EF-7ADA-4A63-A7E5-15CF3C2F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331-CC0B-44AF-B33C-CFD8B186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227-1607-4663-9123-30C1DF04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AC9-079E-4526-8C21-03CC42AD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0D8-FFB5-4669-95ED-10AB2899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87A-3432-40D5-83F7-C0F89191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838-433D-4DFB-B265-05095D09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52D-429B-4519-A834-0D0F250A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894-B11D-4F33-91E1-23A8AB0C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27C-373A-42AA-89BB-9B6981E3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7D28-7A78-421D-BF0D-97747CA9106C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106760" cy="33089760"/>
          </a:xfrm>
          <a:custGeom>
            <a:avLst/>
            <a:gdLst/>
            <a:ahLst/>
            <a:rect l="l" t="t" r="r" b="b"/>
            <a:pathLst>
              <a:path w="10146" h="20844">
                <a:moveTo>
                  <a:pt x="5148" y="20700"/>
                </a:moveTo>
                <a:cubicBezTo>
                  <a:pt x="5796" y="20700"/>
                  <a:pt x="9396" y="20772"/>
                  <a:pt x="9936" y="20772"/>
                </a:cubicBezTo>
                <a:cubicBezTo>
                  <a:pt x="10146" y="20628"/>
                  <a:pt x="7992" y="18540"/>
                  <a:pt x="7632" y="17460"/>
                </a:cubicBezTo>
                <a:cubicBezTo>
                  <a:pt x="7279" y="16351"/>
                  <a:pt x="7290" y="15246"/>
                  <a:pt x="7344" y="14328"/>
                </a:cubicBezTo>
                <a:cubicBezTo>
                  <a:pt x="7398" y="13410"/>
                  <a:pt x="7848" y="12066"/>
                  <a:pt x="7956" y="11952"/>
                </a:cubicBezTo>
                <a:cubicBezTo>
                  <a:pt x="7992" y="12600"/>
                  <a:pt x="7992" y="12564"/>
                  <a:pt x="7992" y="13644"/>
                </a:cubicBezTo>
                <a:cubicBezTo>
                  <a:pt x="8280" y="12492"/>
                  <a:pt x="8640" y="11268"/>
                  <a:pt x="9324" y="10152"/>
                </a:cubicBezTo>
                <a:cubicBezTo>
                  <a:pt x="8568" y="9000"/>
                  <a:pt x="8028" y="7668"/>
                  <a:pt x="7668" y="6840"/>
                </a:cubicBezTo>
                <a:cubicBezTo>
                  <a:pt x="7776" y="7956"/>
                  <a:pt x="7668" y="7236"/>
                  <a:pt x="7776" y="8352"/>
                </a:cubicBezTo>
                <a:cubicBezTo>
                  <a:pt x="7440" y="7896"/>
                  <a:pt x="6228" y="5664"/>
                  <a:pt x="5688" y="4284"/>
                </a:cubicBezTo>
                <a:cubicBezTo>
                  <a:pt x="5244" y="2898"/>
                  <a:pt x="5148" y="1152"/>
                  <a:pt x="5112" y="36"/>
                </a:cubicBezTo>
                <a:cubicBezTo>
                  <a:pt x="3744" y="0"/>
                  <a:pt x="1692" y="36"/>
                  <a:pt x="0" y="36"/>
                </a:cubicBezTo>
                <a:cubicBezTo>
                  <a:pt x="72" y="2916"/>
                  <a:pt x="36" y="17496"/>
                  <a:pt x="72" y="20628"/>
                </a:cubicBezTo>
                <a:cubicBezTo>
                  <a:pt x="1008" y="20700"/>
                  <a:pt x="4356" y="20844"/>
                  <a:pt x="5148" y="20700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2485520" y="9844200"/>
            <a:ext cx="19442160" cy="17130600"/>
            <a:chOff x="12485520" y="9844200"/>
            <a:chExt cx="19442160" cy="17130600"/>
          </a:xfrm>
        </p:grpSpPr>
        <p:pic>
          <p:nvPicPr>
            <p:cNvPr id="43" name="Picture 48" descr="3747"/>
            <p:cNvPicPr/>
            <p:nvPr/>
          </p:nvPicPr>
          <p:blipFill>
            <a:blip r:embed="rId1"/>
            <a:stretch/>
          </p:blipFill>
          <p:spPr>
            <a:xfrm>
              <a:off x="12485520" y="22934520"/>
              <a:ext cx="3813480" cy="353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14462280" y="9844200"/>
              <a:ext cx="17465400" cy="17130600"/>
              <a:chOff x="14462280" y="9844200"/>
              <a:chExt cx="17465400" cy="17130600"/>
            </a:xfrm>
          </p:grpSpPr>
          <p:pic>
            <p:nvPicPr>
              <p:cNvPr id="45" name="Picture 31" descr="Triar"/>
              <p:cNvPicPr/>
              <p:nvPr/>
            </p:nvPicPr>
            <p:blipFill>
              <a:blip r:embed="rId2"/>
              <a:stretch/>
            </p:blipFill>
            <p:spPr>
              <a:xfrm>
                <a:off x="16100280" y="11512440"/>
                <a:ext cx="11141280" cy="1546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2" descr="invaex2"/>
              <p:cNvPicPr/>
              <p:nvPr/>
            </p:nvPicPr>
            <p:blipFill>
              <a:blip r:embed="rId3"/>
              <a:stretch/>
            </p:blipFill>
            <p:spPr>
              <a:xfrm>
                <a:off x="27474840" y="20699280"/>
                <a:ext cx="4452840" cy="490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24"/>
              <p:cNvSpPr/>
              <p:nvPr/>
            </p:nvSpPr>
            <p:spPr>
              <a:xfrm>
                <a:off x="16370280" y="2142504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25"/>
              <p:cNvSpPr/>
              <p:nvPr/>
            </p:nvSpPr>
            <p:spPr>
              <a:xfrm rot="1098600">
                <a:off x="25526520" y="2097252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31" descr="oxygentank"/>
              <p:cNvPicPr/>
              <p:nvPr/>
            </p:nvPicPr>
            <p:blipFill>
              <a:blip r:embed="rId4"/>
              <a:srcRect l="25018" t="0" r="20014" b="0"/>
              <a:stretch/>
            </p:blipFill>
            <p:spPr>
              <a:xfrm>
                <a:off x="14603400" y="1927548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33"/>
              <p:cNvSpPr/>
              <p:nvPr/>
            </p:nvSpPr>
            <p:spPr>
              <a:xfrm flipV="1">
                <a:off x="15774840" y="24883560"/>
                <a:ext cx="5529240" cy="908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34"/>
              <p:cNvSpPr/>
              <p:nvPr/>
            </p:nvSpPr>
            <p:spPr>
              <a:xfrm>
                <a:off x="15160680" y="2141208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36" descr="vital-signs-300-large3"/>
              <p:cNvPicPr/>
              <p:nvPr/>
            </p:nvPicPr>
            <p:blipFill>
              <a:blip r:embed="rId5"/>
              <a:stretch/>
            </p:blipFill>
            <p:spPr>
              <a:xfrm>
                <a:off x="14462280" y="1418580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9"/>
              <p:cNvSpPr/>
              <p:nvPr/>
            </p:nvSpPr>
            <p:spPr>
              <a:xfrm>
                <a:off x="16068600" y="17208360"/>
                <a:ext cx="361656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40" descr="ivstand"/>
              <p:cNvPicPr/>
              <p:nvPr/>
            </p:nvPicPr>
            <p:blipFill>
              <a:blip r:embed="rId6"/>
              <a:stretch/>
            </p:blipFill>
            <p:spPr>
              <a:xfrm>
                <a:off x="27973440" y="984420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3"/>
              <p:cNvSpPr/>
              <p:nvPr/>
            </p:nvSpPr>
            <p:spPr>
              <a:xfrm rot="20649600">
                <a:off x="25405920" y="1094256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44" descr="CDR0000526546"/>
              <p:cNvPicPr/>
              <p:nvPr/>
            </p:nvPicPr>
            <p:blipFill>
              <a:blip r:embed="rId7"/>
              <a:srcRect l="0" t="6900" r="31334" b="12523"/>
              <a:stretch/>
            </p:blipFill>
            <p:spPr>
              <a:xfrm>
                <a:off x="28744920" y="1638288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47"/>
              <p:cNvSpPr/>
              <p:nvPr/>
            </p:nvSpPr>
            <p:spPr>
              <a:xfrm rot="21347400">
                <a:off x="25614000" y="1699560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50"/>
              <p:cNvSpPr/>
              <p:nvPr/>
            </p:nvSpPr>
            <p:spPr>
              <a:xfrm>
                <a:off x="25984080" y="21218400"/>
                <a:ext cx="2349720" cy="8193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1"/>
              <p:cNvSpPr/>
              <p:nvPr/>
            </p:nvSpPr>
            <p:spPr>
              <a:xfrm rot="20956800">
                <a:off x="15165360" y="2490480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52" descr="FAM_CLOROX_DISINFECTING_WIPE-2719"/>
              <p:cNvPicPr/>
              <p:nvPr/>
            </p:nvPicPr>
            <p:blipFill>
              <a:blip r:embed="rId8"/>
              <a:srcRect l="10709" t="5394" r="13504" b="0"/>
              <a:stretch/>
            </p:blipFill>
            <p:spPr>
              <a:xfrm rot="646800">
                <a:off x="14935320" y="1044540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55"/>
              <p:cNvSpPr/>
              <p:nvPr/>
            </p:nvSpPr>
            <p:spPr>
              <a:xfrm rot="615600">
                <a:off x="15697080" y="1142316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42"/>
              <p:cNvSpPr/>
              <p:nvPr/>
            </p:nvSpPr>
            <p:spPr>
              <a:xfrm flipV="1">
                <a:off x="26179560" y="17746200"/>
                <a:ext cx="2349360" cy="2034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54"/>
              <p:cNvSpPr/>
              <p:nvPr/>
            </p:nvSpPr>
            <p:spPr>
              <a:xfrm flipH="1" flipV="1">
                <a:off x="16484760" y="1205208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7"/>
          <p:cNvGrpSpPr/>
          <p:nvPr/>
        </p:nvGrpSpPr>
        <p:grpSpPr>
          <a:xfrm>
            <a:off x="1581120" y="723960"/>
            <a:ext cx="6362280" cy="4724280"/>
            <a:chOff x="1581120" y="723960"/>
            <a:chExt cx="6362280" cy="4724280"/>
          </a:xfrm>
        </p:grpSpPr>
        <p:sp>
          <p:nvSpPr>
            <p:cNvPr id="69" name="Line 8"/>
            <p:cNvSpPr/>
            <p:nvPr/>
          </p:nvSpPr>
          <p:spPr>
            <a:xfrm flipV="1">
              <a:off x="329832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250992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03820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77244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95388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58112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V="1">
              <a:off x="554004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512424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671004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 flipV="1">
              <a:off x="664308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87852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695844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637704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282060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639396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09556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89" name="Picture 27" descr="HR1130_Advance2000"/>
            <p:cNvPicPr/>
            <p:nvPr/>
          </p:nvPicPr>
          <p:blipFill>
            <a:blip r:embed="rId9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9" descr=""/>
            <p:cNvPicPr/>
            <p:nvPr/>
          </p:nvPicPr>
          <p:blipFill>
            <a:blip r:embed="rId10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93"/>
          <p:cNvGrpSpPr/>
          <p:nvPr/>
        </p:nvGrpSpPr>
        <p:grpSpPr>
          <a:xfrm>
            <a:off x="31775400" y="10896480"/>
            <a:ext cx="11810880" cy="6229440"/>
            <a:chOff x="31775400" y="10896480"/>
            <a:chExt cx="11810880" cy="6229440"/>
          </a:xfrm>
        </p:grpSpPr>
        <p:sp>
          <p:nvSpPr>
            <p:cNvPr id="94" name="Text Box 71"/>
            <p:cNvSpPr/>
            <p:nvPr/>
          </p:nvSpPr>
          <p:spPr>
            <a:xfrm>
              <a:off x="31775400" y="108964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72" descr=""/>
            <p:cNvPicPr/>
            <p:nvPr/>
          </p:nvPicPr>
          <p:blipFill>
            <a:blip r:embed="rId11"/>
            <a:stretch/>
          </p:blipFill>
          <p:spPr>
            <a:xfrm>
              <a:off x="32486400" y="1162008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73"/>
            <p:cNvSpPr/>
            <p:nvPr/>
          </p:nvSpPr>
          <p:spPr>
            <a:xfrm>
              <a:off x="33616800" y="1301112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4061400" y="1310616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5"/>
            <p:cNvSpPr/>
            <p:nvPr/>
          </p:nvSpPr>
          <p:spPr>
            <a:xfrm>
              <a:off x="37309320" y="109393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76" descr=""/>
            <p:cNvPicPr/>
            <p:nvPr/>
          </p:nvPicPr>
          <p:blipFill>
            <a:blip r:embed="rId12"/>
            <a:stretch/>
          </p:blipFill>
          <p:spPr>
            <a:xfrm>
              <a:off x="38025360" y="1164420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77"/>
            <p:cNvSpPr/>
            <p:nvPr/>
          </p:nvSpPr>
          <p:spPr>
            <a:xfrm>
              <a:off x="39230280" y="1502244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40716360" y="1309212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38252520" y="118728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0"/>
            <p:cNvSpPr/>
            <p:nvPr/>
          </p:nvSpPr>
          <p:spPr>
            <a:xfrm rot="21118800">
              <a:off x="38862000" y="1271052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33756480" y="1303020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71" descr="connections"/>
          <p:cNvPicPr/>
          <p:nvPr/>
        </p:nvPicPr>
        <p:blipFill>
          <a:blip r:embed="rId13"/>
          <a:stretch/>
        </p:blipFill>
        <p:spPr>
          <a:xfrm>
            <a:off x="32842080" y="25854120"/>
            <a:ext cx="985536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2" descr="future"/>
          <p:cNvPicPr/>
          <p:nvPr/>
        </p:nvPicPr>
        <p:blipFill>
          <a:blip r:embed="rId14"/>
          <a:srcRect l="14269" t="0" r="0" b="0"/>
          <a:stretch/>
        </p:blipFill>
        <p:spPr>
          <a:xfrm>
            <a:off x="31772160" y="18749880"/>
            <a:ext cx="12347640" cy="8529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533520" y="723888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e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" y="142495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80880" y="21902760"/>
            <a:ext cx="11811240" cy="80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integrated the process to facilitate workflow an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3"/>
          <p:cNvSpPr/>
          <p:nvPr/>
        </p:nvSpPr>
        <p:spPr>
          <a:xfrm>
            <a:off x="33299280" y="5086440"/>
            <a:ext cx="998244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305704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3"/>
          <p:cNvSpPr/>
          <p:nvPr/>
        </p:nvSpPr>
        <p:spPr>
          <a:xfrm flipV="1">
            <a:off x="41595840" y="4419720"/>
            <a:ext cx="3217680" cy="3816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4" descr=""/>
          <p:cNvPicPr/>
          <p:nvPr/>
        </p:nvPicPr>
        <p:blipFill>
          <a:blip r:embed="rId15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5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9"/>
          <p:cNvSpPr/>
          <p:nvPr/>
        </p:nvSpPr>
        <p:spPr>
          <a:xfrm>
            <a:off x="34366320" y="17278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1"/>
          <p:cNvSpPr/>
          <p:nvPr/>
        </p:nvSpPr>
        <p:spPr>
          <a:xfrm>
            <a:off x="34633080" y="17430840"/>
            <a:ext cx="53316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3"/>
          <p:cNvSpPr/>
          <p:nvPr/>
        </p:nvSpPr>
        <p:spPr>
          <a:xfrm>
            <a:off x="33299280" y="18450000"/>
            <a:ext cx="9982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9"/>
          <p:cNvSpPr/>
          <p:nvPr/>
        </p:nvSpPr>
        <p:spPr>
          <a:xfrm>
            <a:off x="37814400" y="17297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1"/>
          <p:cNvSpPr/>
          <p:nvPr/>
        </p:nvSpPr>
        <p:spPr>
          <a:xfrm>
            <a:off x="38080800" y="1744992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Thompson</cp:lastModifiedBy>
  <dcterms:modified xsi:type="dcterms:W3CDTF">2008-11-23T19:45:08Z</dcterms:modified>
  <cp:revision>45</cp:revision>
  <dc:subject/>
  <dc:title>Slide 1</dc:title>
</cp:coreProperties>
</file>